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F31E8-1B9A-4F5F-B833-F67308B16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27F08-150C-445C-BCB8-F07C295C4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DE7ED-A24F-44BF-BF32-30B4FC0F4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91C68-94A3-46C5-8858-C5892C04E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606BD-18C2-4D5E-98AB-E8FCEB516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20AE8-30C6-493C-A1FE-BD1642327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85C50-8C34-45B3-BE30-F525FF812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EC7CA-1F79-4694-89C3-40D2A21B4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203A4-BB4B-4E68-AB77-9F09D18AF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326D3-E254-4133-82FF-295CE82C7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9787F-5193-4E26-BD18-3ACD021DD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3B494-ADB0-46D1-AF33-CB682FD86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33CA-20A0-49F0-9A6C-60F333DC17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thomley</cp:lastModifiedBy>
  <dcterms:modified xsi:type="dcterms:W3CDTF">2005-10-12T21:06:01Z</dcterms:modified>
  <cp:revision>51</cp:revision>
  <dc:subject/>
  <dc:title>PowerPoint Presentation</dc:title>
</cp:coreProperties>
</file>